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C4C-9556-4652-9DAC-ABA3DDD8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1DD-8A1E-45BB-8769-6F1D3A1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650-7D70-450F-A273-F0F1527D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E68-7DC9-4D52-BF65-F8028F18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F74-CF23-482C-936F-232F2F61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1C8-5F71-4005-8206-2E14ADF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58D-00B7-4738-91F8-5AFBDD1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301-DE7E-4B47-8A11-CB477C9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036-559D-4773-94F0-CFE384F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32D-36F8-4DB8-A8BB-3AB9DB56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AAE-E1FF-4321-AD37-CD0794F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DBB-2056-44A5-A925-CAA6F0B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EF31-8096-4D71-AA95-76B00E6A5F5C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hole Learning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523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the learner attempting the whole movement pattern after observing a demonstration or being given verbal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048120"/>
            <a:ext cx="746748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simple / discrete or ballistic e.g. golf swing or throwing javel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ubroutines lack meaning if performed in iso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motivated &amp; pay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experienced and at the autonomous stage of lear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981080" y="1676520"/>
            <a:ext cx="655344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ss in Rugby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4290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j0283980[1]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1828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Part Learning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5238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the learner completing subroutines of the overall movement in isolation before attempting the the overall motor programme or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048120"/>
            <a:ext cx="746748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complex (e.g. hurdl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kill involves long 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ow levels of 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inexperie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has limited motivation and attention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380880"/>
            <a:ext cx="6553440" cy="20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g Jump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3002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0020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Progressive Part Metho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s a variation on the Part Method. Involves the performer attempting skills in stages and linking the phases together after each has been lear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895480"/>
            <a:ext cx="74674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skill is s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Skill is danger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Adequat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has limited motivation and attention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Performer is inexperie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600200" y="1523880"/>
            <a:ext cx="6553080" cy="20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ymnastics Routine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4057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0336409[1]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00200" y="4572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hole-part-whole Metho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Involves a combination of the major two methods. The performer attempts the whole movement after observation and verbal instructions. They then develop specific subroutines before attempting whole skill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886200"/>
            <a:ext cx="74674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c8c00"/>
                </a:solidFill>
                <a:latin typeface="Comic Sans MS"/>
              </a:rPr>
              <a:t>The ideal conditions for using this method are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1. When the skill can be broken down eas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52480" y="533520"/>
            <a:ext cx="655344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nnis Serve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40575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j0283738[1]" descr=""/>
          <p:cNvPicPr/>
          <p:nvPr/>
        </p:nvPicPr>
        <p:blipFill>
          <a:blip r:embed="rId1"/>
          <a:stretch/>
        </p:blipFill>
        <p:spPr>
          <a:xfrm>
            <a:off x="3581280" y="2971800"/>
            <a:ext cx="288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0:42:25Z</dcterms:created>
  <dc:creator>Marcellin College</dc:creator>
  <dc:description/>
  <dc:language>en-US</dc:language>
  <cp:lastModifiedBy>sullivang</cp:lastModifiedBy>
  <dcterms:modified xsi:type="dcterms:W3CDTF">2011-05-21T23:54:12Z</dcterms:modified>
  <cp:revision>1</cp:revision>
  <dc:subject/>
  <dc:title>Slide 1</dc:title>
</cp:coreProperties>
</file>